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03200" y="683280"/>
            <a:ext cx="449568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0280" y="4271400"/>
            <a:ext cx="568188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my notes for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">
            <a:hlinkClick r:id="" action="ppaction://hlinkshowjump?jump=endshow"/>
          </p:cNvPr>
          <p:cNvSpPr/>
          <p:nvPr/>
        </p:nvSpPr>
        <p:spPr>
          <a:xfrm>
            <a:off x="843120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lastslide"/>
          </p:cNvPr>
          <p:cNvSpPr/>
          <p:nvPr/>
        </p:nvSpPr>
        <p:spPr>
          <a:xfrm>
            <a:off x="7896240" y="0"/>
            <a:ext cx="460440" cy="576360"/>
          </a:xfrm>
          <a:custGeom>
            <a:avLst/>
            <a:gdLst>
              <a:gd name="textAreaLeft" fmla="*/ 29520 w 460440"/>
              <a:gd name="textAreaRight" fmla="*/ 430920 w 460440"/>
              <a:gd name="textAreaTop" fmla="*/ 29520 h 576360"/>
              <a:gd name="textAreaBottom" fmla="*/ 546840 h 576360"/>
            </a:gdLst>
            <a:ahLst/>
            <a:rect l="textAreaLeft" t="textAreaTop" r="textAreaRight" b="textAreaBottom"/>
            <a:pathLst>
              <a:path w="21600" h="27034">
                <a:moveTo>
                  <a:pt x="0" y="0"/>
                </a:moveTo>
                <a:lnTo>
                  <a:pt x="21600" y="0"/>
                </a:lnTo>
                <a:lnTo>
                  <a:pt x="21600" y="27034"/>
                </a:lnTo>
                <a:lnTo>
                  <a:pt x="0" y="27034"/>
                </a:lnTo>
                <a:close/>
              </a:path>
              <a:path fill="lightenLess" w="21600" h="270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4">
                <a:moveTo>
                  <a:pt x="21600" y="0"/>
                </a:moveTo>
                <a:lnTo>
                  <a:pt x="21600" y="27034"/>
                </a:lnTo>
                <a:lnTo>
                  <a:pt x="20200" y="25634"/>
                </a:lnTo>
                <a:lnTo>
                  <a:pt x="20200" y="1400"/>
                </a:lnTo>
                <a:close/>
              </a:path>
              <a:path fill="darkenLess" w="21600" h="27034">
                <a:moveTo>
                  <a:pt x="21600" y="27034"/>
                </a:moveTo>
                <a:lnTo>
                  <a:pt x="0" y="27034"/>
                </a:lnTo>
                <a:lnTo>
                  <a:pt x="1400" y="25634"/>
                </a:lnTo>
                <a:lnTo>
                  <a:pt x="20200" y="25634"/>
                </a:lnTo>
                <a:close/>
              </a:path>
              <a:path fill="lighten" w="21600" h="27034">
                <a:moveTo>
                  <a:pt x="0" y="270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46928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78040" y="912960"/>
            <a:ext cx="4473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The Age of Imperialism,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1850–1914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73360" y="1936800"/>
            <a:ext cx="662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estern countries colonize large areas of Africa and Asia, leading to political and cultural chang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73360" y="2174760"/>
            <a:ext cx="544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ms of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s develop four forms of control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rritor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lony—governed by a foreign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tectorate—governs itself, but under outs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here of influence—outside power contro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ment, tr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conomic imperialism—private 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ests assert contr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3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82720" y="1690560"/>
            <a:ext cx="374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 New Period of Imperial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73360" y="2174760"/>
            <a:ext cx="544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thods of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s use two methods to manage colon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irect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4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82720" y="1690560"/>
            <a:ext cx="374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 New Period of Imperial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73360" y="3371760"/>
            <a:ext cx="573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irect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mited self-rule for local gover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gislative body includes colonial, local offic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82720" y="4314960"/>
            <a:ext cx="573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Paternal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Europeans provide for local peopl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t grant no r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Assimi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adaptation of local people to ru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l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73360" y="159876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 British Colo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73360" y="2174760"/>
            <a:ext cx="572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aining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ain conquers southern Nigeria using bo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plomacy and fo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quest of northern Nigeria through Royal Nig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914, Britain claims all of Nigeria as a colo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56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3360" y="3941640"/>
            <a:ext cx="578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the Colo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igeria is culturally diverse area, with about 25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thnic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ish use indirect rule successfully with Hausa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ula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oruba and Igbo chiefs resent limits on their p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75880" y="159876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frican Resis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73360" y="2174760"/>
            <a:ext cx="58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fricans Confront Imperial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oad resistance to imperialism, but Europeans ha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erior weap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66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73360" y="3110040"/>
            <a:ext cx="644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successful Mov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geria actively resists French for almost 50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mori Touré fights French in West Africa for 16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German East Africa, people put faith in spiritu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f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s in about 75,000 deaths; famine kills twice as 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73360" y="4881600"/>
            <a:ext cx="573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thiopia: A Successful Res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Menelik 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emperor of Ethiopia in 1889, resis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ys Europeans against each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ockpiles arsenal of modern weap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feats Italy, remains 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72280" y="159876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Legacy of Colonial Rule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73360" y="2174760"/>
            <a:ext cx="544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 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fricans lose land and independence, many lo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ditional cultures break 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vision of Africa creates problems that contin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7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73360" y="3938760"/>
            <a:ext cx="573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ve 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lonialism reduces local figh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nitation improves; hospitals and schools cre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 brings economic grow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1370880" y="2486160"/>
            <a:ext cx="5008680" cy="1640520"/>
            <a:chOff x="1370880" y="2486160"/>
            <a:chExt cx="5008680" cy="1640520"/>
          </a:xfrm>
        </p:grpSpPr>
        <p:sp>
          <p:nvSpPr>
            <p:cNvPr id="183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70880" y="2867040"/>
              <a:ext cx="500868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Europeans Claim 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Muslim Lands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370160" y="4100400"/>
            <a:ext cx="694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nations expand their empires by seizing territories from Muslim st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72640" y="182736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Ottoman Empire Loses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73360" y="2403360"/>
            <a:ext cx="5788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forms F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fter Suleyman I dies in 1566, empire start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c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toman Empire falls behind Europe in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lim III attempts to modernize army and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verthr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bject peoples in Greece and Serbia ga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powers look for ways to take Ottom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19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70880" y="885960"/>
            <a:ext cx="604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Europeans Claim Muslim Lands</a:t>
            </a: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73720" y="1598760"/>
            <a:ext cx="39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Europeans Grab Terri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73360" y="2174760"/>
            <a:ext cx="544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opoli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Geopoli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taking land for its strategic lo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 to sea trade routes focuses attention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toman 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0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773360" y="3646440"/>
            <a:ext cx="5873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ussia and the Crimean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Crimean W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Russia attacks Ottomans in 1853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ain warm-water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ussia loses, but Ottomans are shown to be weak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ll lose 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73360" y="5114880"/>
            <a:ext cx="573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eat G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reat Game—war waged between Russia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ain over In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ttles fought in Afghanistan until British withdraw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8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73000" y="159876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Egypt Initiates Refo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73360" y="2174760"/>
            <a:ext cx="544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litary and Economic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hammad Ali breaks away from Ottom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 and rules Egy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gins series of reforms in military and 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ifts Egyptian agriculture from food crops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sh cr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15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773360" y="3946680"/>
            <a:ext cx="5873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Suez Ca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gypt build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ez Ca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human-made waterw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s Red Sea to Mediterran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rnization efforts create huge deb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ish oversee financial control of canal, occup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gypt in 188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75520" y="159876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Persia Pressured to 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73360" y="2174760"/>
            <a:ext cx="544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Exploitation of Per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ussia wants access to Persian Gulf and Indi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c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ain wants Persian oil and Afghanis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sia concedes to Western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25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773360" y="3646440"/>
            <a:ext cx="5873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ttle over Tobac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sian ruler sells concession to Britain to exp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bac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sians boycott tobacco, leads to rio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907, Russia and Britain seize and divide Pers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tween th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78040" y="912960"/>
            <a:ext cx="4473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The Age of Imperialism,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1850–1914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46240" y="251136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2046240" y="30733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2046240" y="360684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2046240" y="414036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5880" y="250200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cramble for Afr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48040" y="3078000"/>
            <a:ext cx="31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6e19"/>
                </a:solidFill>
                <a:latin typeface="Arial"/>
                <a:ea typeface="Times New Roman"/>
              </a:rPr>
              <a:t>CASE STUD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mperialis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45160" y="3591000"/>
            <a:ext cx="384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s Claim Muslim Lan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47320" y="4129200"/>
            <a:ext cx="32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ritish Imperialism in Ind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46240" y="46735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46600" y="4662360"/>
            <a:ext cx="36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mperialism in Southeast As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370880" y="2486160"/>
            <a:ext cx="5325840" cy="1640520"/>
            <a:chOff x="1370880" y="2486160"/>
            <a:chExt cx="5325840" cy="1640520"/>
          </a:xfrm>
        </p:grpSpPr>
        <p:sp>
          <p:nvSpPr>
            <p:cNvPr id="231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70880" y="2867040"/>
              <a:ext cx="532584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British Imperialism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in India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370160" y="412416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the Mughal Empire declined, Britain seizes Indian territory and soon it controls almost the whole subcontin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74480" y="941400"/>
            <a:ext cx="51472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British Imperialism in Indi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73360" y="2403360"/>
            <a:ext cx="578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st India Company Dom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ish East India Company rules India until 1850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 has its own army led by British offic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my is staffed by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sepo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Indian sold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4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71560" y="1827360"/>
            <a:ext cx="51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British Expand Control over Ind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73360" y="3633840"/>
            <a:ext cx="573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ain’s “Jewel in the Crow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ia is Britain’s most valuable colony, or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“jewel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the crow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ced to produce raw materials for Britis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so forced to buy British goo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73360" y="2174760"/>
            <a:ext cx="544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ish Transport Trade G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lroads move cash crops and goods f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de in specific crops is tied to internat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73360" y="3367080"/>
            <a:ext cx="573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act of Colonial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ish hold much of political and economic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sh crops result in loss of self-sufficiency, fa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ian life disrupted by missionaries and rac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titu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ish modernize India’s economy, improve publ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al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82360" y="1690560"/>
            <a:ext cx="422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British Expand Control over Ind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5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73360" y="159876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Sepoy Mutiny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73360" y="2174760"/>
            <a:ext cx="544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ians Re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poys refuse to use cartridges of new rifles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igious reas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y Sepoys are jailed; others start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Sepo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Muti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gainst Brit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y Indians, especially Sikhs, remain loyal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73360" y="4167360"/>
            <a:ext cx="573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urning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ish put down rebellion, take direct command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Ra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term for British rule over India, lasts from 175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19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prising increases distrust between British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6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71920" y="159876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Nationalism Surfaces in India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73360" y="2174760"/>
            <a:ext cx="544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ll for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800s, Ram Mohun Roy leads moderniz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y Indians adopt western ways and call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cial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ians resent being second-class citizens in 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u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73360" y="4218120"/>
            <a:ext cx="587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ist Groups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ian National Congress and Muslim Leagu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ists angered by partition of Ben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ssure forces Britain to divide it differen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7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369800" y="2486160"/>
            <a:ext cx="4470840" cy="1640520"/>
            <a:chOff x="1369800" y="2486160"/>
            <a:chExt cx="4470840" cy="1640520"/>
          </a:xfrm>
        </p:grpSpPr>
        <p:sp>
          <p:nvSpPr>
            <p:cNvPr id="279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69800" y="2867040"/>
              <a:ext cx="447084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Imperialism in 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Southeast Asia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1370160" y="411012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 for Asian products drive Western imperialists to seek possession of Southeast Asian la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72280" y="182736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71600" y="941400"/>
            <a:ext cx="570060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Imperialism in Southeast Asi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73360" y="2403360"/>
            <a:ext cx="5788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s Race to Claim Pacific R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nds of Southeast Asia that border Pacific Oce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m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Pacific R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utch, British, French, Germans claim part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cific R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 trading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nd perfect for plantation agri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72640" y="1827360"/>
            <a:ext cx="61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European Powers Invade the Pacific R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73360" y="4457880"/>
            <a:ext cx="573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utch Expand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utch colonies, called Dutch East Indies, inclu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ones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ttle Indonesia, establish rigid social class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704960" y="793800"/>
            <a:ext cx="658800" cy="511920"/>
            <a:chOff x="1704960" y="793800"/>
            <a:chExt cx="658800" cy="511920"/>
          </a:xfrm>
        </p:grpSpPr>
        <p:sp>
          <p:nvSpPr>
            <p:cNvPr id="292" name=""/>
            <p:cNvSpPr/>
            <p:nvPr/>
          </p:nvSpPr>
          <p:spPr>
            <a:xfrm>
              <a:off x="170496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77760" y="9954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7776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5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73360" y="2174760"/>
            <a:ext cx="544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ish Take the Malayan Penins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ain seizes Singapore as a port and trad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so gets colonies in Malaysia, Bu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inese immigration to Malaysia crea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74800" y="3946680"/>
            <a:ext cx="546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ench Control Indo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ench come to control Vietnam, Laos, Cambod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ly control French Indo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ort rice, angering Vietname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704960" y="793800"/>
            <a:ext cx="658800" cy="511920"/>
            <a:chOff x="1704960" y="793800"/>
            <a:chExt cx="658800" cy="511920"/>
          </a:xfrm>
        </p:grpSpPr>
        <p:sp>
          <p:nvSpPr>
            <p:cNvPr id="302" name=""/>
            <p:cNvSpPr/>
            <p:nvPr/>
          </p:nvSpPr>
          <p:spPr>
            <a:xfrm>
              <a:off x="170496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77760" y="9954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7776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782360" y="1690560"/>
            <a:ext cx="49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European Powers Invade the Pacific Ri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73360" y="2174760"/>
            <a:ext cx="544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lonial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rnization mainly helps European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, health, sanitation impr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llions migrate to Southeast Asia to work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nes, pla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lonialism leads to racial and religious clas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704960" y="793800"/>
            <a:ext cx="658800" cy="511920"/>
            <a:chOff x="1704960" y="793800"/>
            <a:chExt cx="658800" cy="511920"/>
          </a:xfrm>
        </p:grpSpPr>
        <p:sp>
          <p:nvSpPr>
            <p:cNvPr id="312" name=""/>
            <p:cNvSpPr/>
            <p:nvPr/>
          </p:nvSpPr>
          <p:spPr>
            <a:xfrm>
              <a:off x="170496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77760" y="9954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7776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782360" y="1690560"/>
            <a:ext cx="49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European Powers Invade the Pacific Ri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74080" y="159876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Siam Remains Independent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73360" y="2174760"/>
            <a:ext cx="544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rnization in Si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am remains independent, neutral zone betwe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ench, Brit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King Mongk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odernizes countr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arts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forms legal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organizes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s transportation and telegrap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s slav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704960" y="793800"/>
            <a:ext cx="658800" cy="511920"/>
            <a:chOff x="1704960" y="793800"/>
            <a:chExt cx="658800" cy="511920"/>
          </a:xfrm>
        </p:grpSpPr>
        <p:sp>
          <p:nvSpPr>
            <p:cNvPr id="322" name=""/>
            <p:cNvSpPr/>
            <p:nvPr/>
          </p:nvSpPr>
          <p:spPr>
            <a:xfrm>
              <a:off x="170496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77760" y="9954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7776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369800" y="2486160"/>
            <a:ext cx="6788880" cy="1057680"/>
            <a:chOff x="1369800" y="2486160"/>
            <a:chExt cx="6788880" cy="1057680"/>
          </a:xfrm>
        </p:grpSpPr>
        <p:sp>
          <p:nvSpPr>
            <p:cNvPr id="63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69800" y="2867040"/>
              <a:ext cx="678888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The Scramble for Africa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373040" y="3532320"/>
            <a:ext cx="766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gnoring the claims of African ethnic groups, kingdom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city-states, Europeans establish colon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69400" y="1598760"/>
            <a:ext cx="56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U.S. Imperialism in the Pacific Is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73360" y="2174760"/>
            <a:ext cx="544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hilippines Change H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.S. gains Philippines after Spanish-Americ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Emilio Aguinal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eads Filipino nationalis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gainst U.S.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.S. defeats three-year nationalist revolt (19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.S. promises to prepare Filipinos for self-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cus on cash crops leads to food shortag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704960" y="793800"/>
            <a:ext cx="658800" cy="511920"/>
            <a:chOff x="1704960" y="793800"/>
            <a:chExt cx="658800" cy="511920"/>
          </a:xfrm>
        </p:grpSpPr>
        <p:sp>
          <p:nvSpPr>
            <p:cNvPr id="331" name=""/>
            <p:cNvSpPr/>
            <p:nvPr/>
          </p:nvSpPr>
          <p:spPr>
            <a:xfrm>
              <a:off x="170496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77760" y="9954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7776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73360" y="2174760"/>
            <a:ext cx="5445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waii Becomes a Republ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ericans establish sugar-cane plantations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wa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 mid-1800s, sugar accounts for 75 percen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waii’s w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.S. business leaders want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annex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add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rritory to cou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Queen Liliuokala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ries to restore Hawaii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erican businessmen have her removed 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.S. annexes Republic of Hawaii  (1898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704960" y="793800"/>
            <a:ext cx="658800" cy="511920"/>
            <a:chOff x="1704960" y="793800"/>
            <a:chExt cx="658800" cy="511920"/>
          </a:xfrm>
        </p:grpSpPr>
        <p:sp>
          <p:nvSpPr>
            <p:cNvPr id="340" name=""/>
            <p:cNvSpPr/>
            <p:nvPr/>
          </p:nvSpPr>
          <p:spPr>
            <a:xfrm>
              <a:off x="170496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877760" y="9954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7776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784160" y="1690560"/>
            <a:ext cx="458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U.S. Imperialism in the Pacific Isl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2344680" y="2827440"/>
            <a:ext cx="61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is is the end of the chapter presentation of lecture notes. Click the HOME or EXIT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1880" y="6010200"/>
            <a:ext cx="495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8402760" y="6443640"/>
            <a:ext cx="512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BAC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endshow"/>
          </p:cNvPr>
          <p:cNvSpPr/>
          <p:nvPr/>
        </p:nvSpPr>
        <p:spPr>
          <a:xfrm>
            <a:off x="8431200" y="111240"/>
            <a:ext cx="36180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>
            <a:hlinkClick r:id="" action="ppaction://hlinkshowjump?jump=previousslide"/>
          </p:cNvPr>
          <p:cNvSpPr/>
          <p:nvPr/>
        </p:nvSpPr>
        <p:spPr>
          <a:xfrm>
            <a:off x="8408880" y="6045120"/>
            <a:ext cx="438120" cy="43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05160" y="1274760"/>
            <a:ext cx="54579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Slide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In the pop-up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alog box does not include this pop-up, continue to 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 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x, choose the presentation format you want to print: slides, notes, handouts, or 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Click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ton to print the PowerPoint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>
            <a:hlinkClick r:id="" action="ppaction://hlinkshowjump?jump=firstslide"/>
          </p:cNvPr>
          <p:cNvSpPr/>
          <p:nvPr/>
        </p:nvSpPr>
        <p:spPr>
          <a:xfrm>
            <a:off x="746928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11120" y="1644480"/>
            <a:ext cx="2816280" cy="21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74080" y="182736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frica Before European Dom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69800" y="941400"/>
            <a:ext cx="45806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The Scramble for Afric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73360" y="2403360"/>
            <a:ext cx="56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s Discourage Expl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mies, rivers, disease discourage expl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7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73360" y="3065400"/>
            <a:ext cx="5808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s Compete for Overseas Emp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Imperial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seizure of a country or territory by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ronger cou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ssionaries, explorers, humanitarians reach interi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Af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73360" y="4532400"/>
            <a:ext cx="582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go Sparks Inte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nry Stanley helps King Leopold II of Belgi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quire land in Con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opold brutally exploits Africans; millions d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lgian government takes colony away from Leop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ch of Europe begins to claim parts of Af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72640" y="1598760"/>
            <a:ext cx="41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Forces Driving Imperiali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8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773360" y="2174760"/>
            <a:ext cx="573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lief in European Supe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ce for colonies grows out of national pr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Rac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belief that one race is better than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Social Darwi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survival of the fittest applied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uman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73360" y="3665520"/>
            <a:ext cx="573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ctors Promoting Imperialism in Af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ical inventions like steam engine, Maxi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un help con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fection of quinine protects Europeans 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thin Africa, Africans are divided by language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l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72280" y="159876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Division of Afr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9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773360" y="2174760"/>
            <a:ext cx="573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Lure of W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covery of gold and diamonds increases inter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colo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73360" y="3098880"/>
            <a:ext cx="573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rlin Conference Divides Af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Berlin Con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14 nations agree on rules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vision (1884–85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untries must claim land and prove ability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 1914, only Liberia and Ethiopia are fre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control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73360" y="5143680"/>
            <a:ext cx="573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 for Raw Materials Shapes Colo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w materials are greatest source of wealth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f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es develop cash-crop plant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73360" y="1598760"/>
            <a:ext cx="58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ree Groups Clash over South Afr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0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773360" y="2174760"/>
            <a:ext cx="6075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ulus Fight the Brit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Sha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Zulu chief—creates centralized state arou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8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ish defeat Zulus and gain control of Zulu nation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8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73360" y="3676680"/>
            <a:ext cx="5788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oers and British Settle in the C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Bo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 Dutch farmers, take Africans’ lan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 large fa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oers clash with British over land, slav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ve north to escape Brit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73360" y="520056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Boer 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Boer W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between British, Boers begins in 18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ish win; Boer republics united in Union of Sou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frica (191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0160" y="3954600"/>
            <a:ext cx="670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s embark on a new phase of empire building that affects both Africa and the rest of the worl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370160" y="2397240"/>
            <a:ext cx="6800760" cy="1519920"/>
            <a:chOff x="1370160" y="2397240"/>
            <a:chExt cx="6800760" cy="1519920"/>
          </a:xfrm>
        </p:grpSpPr>
        <p:sp>
          <p:nvSpPr>
            <p:cNvPr id="115" name=""/>
            <p:cNvSpPr/>
            <p:nvPr/>
          </p:nvSpPr>
          <p:spPr>
            <a:xfrm>
              <a:off x="1370160" y="2397240"/>
              <a:ext cx="431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70160" y="2787480"/>
              <a:ext cx="68007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Imperialism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00040" y="345744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b6e19"/>
                  </a:solidFill>
                  <a:latin typeface="Arial"/>
                  <a:ea typeface="Times New Roman"/>
                </a:rPr>
                <a:t>CASE STUDY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Niger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71200" y="1827360"/>
            <a:ext cx="43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 New Period of Imperiali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70160" y="941400"/>
            <a:ext cx="23997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Imperialism</a:t>
            </a: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73360" y="2403360"/>
            <a:ext cx="58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tending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s want to control all aspects of thei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loni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 political, social lives of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ape economies to benefit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ant people to adopt European custo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2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67640" y="134460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b6e19"/>
                </a:solidFill>
                <a:latin typeface="Arial"/>
              </a:rPr>
              <a:t>CASE STUDY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ig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21:09:30Z</dcterms:created>
  <dc:creator>McDougal Littell</dc:creator>
  <dc:description/>
  <dc:language>en-US</dc:language>
  <cp:lastModifiedBy>Amy Kalas</cp:lastModifiedBy>
  <cp:lastPrinted>2003-11-12T20:33:16Z</cp:lastPrinted>
  <dcterms:modified xsi:type="dcterms:W3CDTF">2007-11-30T03:38:20Z</dcterms:modified>
  <cp:revision>866</cp:revision>
  <dc:subject/>
  <dc:title>No Slide Title</dc:title>
</cp:coreProperties>
</file>